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80D-3945-4F2A-ABBF-84B929A4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754-5B2C-4FC2-9B1E-2EC193CE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B87-4AE4-4330-9F04-E2FC1946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BC7-6318-4F59-ABD3-21FD6211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740B-0581-411F-A5B6-01ADAE07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73F2-620D-4495-A5AA-D8089C16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2C62-AABA-4AD3-84F1-5F738612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8C1D-7BCB-40AB-9EBE-7560B854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E5F8-6155-42E5-B987-D3383901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D821-809A-4A1E-B678-2E928564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6CEF-EE57-4040-82D2-95314AC3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B93-1A40-4A71-BC0D-552F1ACA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87D7-59EC-4451-AF23-536F5331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2720-6455-4EF3-AB3C-D5EB358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07EB-F2B0-46D4-BEC6-D173F53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D59B-F4D2-47DD-BF4C-51AF5C62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544D-FBB7-4F87-8C9E-F61473B3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CA9-B187-442D-A173-26DDFD6A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AF3-7A28-4D50-9F38-11D86146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029-E792-43C7-9399-9CD073B8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2F0-345F-44D3-8473-486118D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39D-8678-455A-A713-00C902F9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9B0-8C28-4082-B79D-1691B0AD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CA7-DE9C-495F-8014-B87ABAA9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DC95-8C99-474A-8A9D-71F36CD925F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1FB-060A-4071-A985-05FEB572ADF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45352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4067280" y="4292640"/>
            <a:ext cx="501156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дготовил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учитель ист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БОУ Школа № 216 г. Моск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стрюков Михаил Александ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Резолюция Генеральной Ассамблеи ООН регламентирует порядок преследования, арестов военных преступников по всему миру.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 применим срок давности преступления к военным преступникам!!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1"/>
          <p:cNvSpPr/>
          <p:nvPr/>
        </p:nvSpPr>
        <p:spPr>
          <a:xfrm>
            <a:off x="-252360" y="476280"/>
            <a:ext cx="979308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НАЧЕНИЕ МГ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жизни и достоинства в условиях войны, оградить человека от воздействия грубой си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ожет исключить войну, но может ограничить бедствия, вызванные 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ичие МГП побуждает людей не совершать преступ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усмотрены санкции (возмещение экономического ущерба, уголовное преследование за военные преступлени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5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00"/>
                </a:solidFill>
                <a:latin typeface="Calibri"/>
              </a:rPr>
              <a:t>План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258560"/>
            <a:ext cx="8604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нятие МГ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сточники МГ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омбатанты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сновные направления МГ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оенные преступления и преступник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начение МГ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Рисунок 2" descr=""/>
          <p:cNvPicPr/>
          <p:nvPr/>
        </p:nvPicPr>
        <p:blipFill>
          <a:blip r:embed="rId1"/>
          <a:stretch/>
        </p:blipFill>
        <p:spPr>
          <a:xfrm>
            <a:off x="5724360" y="4559400"/>
            <a:ext cx="3272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alibri"/>
              </a:rPr>
              <a:t>Войны в истории человечества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8920" y="1125360"/>
            <a:ext cx="82803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14 000 вой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гибло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 – 5 млрд челов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1945 – Организация Объединенных Наций (ООН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оотношение жертв в современных военных  конфликтах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1/10 – военный – граждански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1/100 – военный – гражданский в условиях ядерной войн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00"/>
                </a:solidFill>
                <a:latin typeface="Calibri"/>
              </a:rPr>
              <a:t>Понятие МГП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МЕЖДУНАРОДНОЕ ГУМАНИТАРНОЕ ПРАВО (МГП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отрасль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МЕЖДУНАРОДНОГ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права (совокупность отношений между государствами), которое касается правил ведения войн, законов и обычаев ведения войны, отношений между воющими странами, а также между нейтральными и воющими странам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ЦЕЛЬ МГП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гуманизация средств и методов ведения войны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00"/>
                </a:solidFill>
                <a:latin typeface="Calibri"/>
              </a:rPr>
              <a:t>Источники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Конвенции в Гааге - 1899, 190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Конвенции в Женеве – 1949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d0d0d"/>
                </a:solidFill>
                <a:uFillTx/>
                <a:latin typeface="Constantia"/>
              </a:rPr>
              <a:t>ЖЕНЕВСКОЕ ПРАВО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МГП – правовая основа для деятельности Международного Комитета Красного Крест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(с 1860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Плюс 3"/>
          <p:cNvSpPr/>
          <p:nvPr/>
        </p:nvSpPr>
        <p:spPr>
          <a:xfrm>
            <a:off x="7308720" y="5229360"/>
            <a:ext cx="719280" cy="647640"/>
          </a:xfrm>
          <a:custGeom>
            <a:avLst/>
            <a:gdLst/>
            <a:ahLst/>
            <a:rect l="l" t="t" r="r" b="b"/>
            <a:pathLst>
              <a:path w="719138" h="647700">
                <a:moveTo>
                  <a:pt x="95322" y="247680"/>
                </a:moveTo>
                <a:lnTo>
                  <a:pt x="283399" y="247680"/>
                </a:lnTo>
                <a:lnTo>
                  <a:pt x="283399" y="85853"/>
                </a:lnTo>
                <a:lnTo>
                  <a:pt x="435739" y="85853"/>
                </a:lnTo>
                <a:lnTo>
                  <a:pt x="435739" y="247680"/>
                </a:lnTo>
                <a:lnTo>
                  <a:pt x="623816" y="247680"/>
                </a:lnTo>
                <a:lnTo>
                  <a:pt x="623816" y="400020"/>
                </a:lnTo>
                <a:lnTo>
                  <a:pt x="435739" y="400020"/>
                </a:lnTo>
                <a:lnTo>
                  <a:pt x="435739" y="561847"/>
                </a:lnTo>
                <a:lnTo>
                  <a:pt x="283399" y="561847"/>
                </a:lnTo>
                <a:lnTo>
                  <a:pt x="283399" y="400020"/>
                </a:lnTo>
                <a:lnTo>
                  <a:pt x="95322" y="400020"/>
                </a:lnTo>
                <a:lnTo>
                  <a:pt x="95322" y="2476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лючевые понятия МГП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батант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енноплен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енные преступн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00"/>
                </a:solidFill>
                <a:latin typeface="Calibri"/>
              </a:rPr>
              <a:t>Комбатанты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980640"/>
            <a:ext cx="885672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ица, входящие в состав вооруженных сил сторон, находящихся в конфликте и имеющих право принимать участие в военном конфликте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Комбатантами являются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А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еннослужащие, входящие в личный состав сухопутных, военно-морских и военно-воздушных сил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Б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артизаны, личный состав ополчений и добровольческих отряд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В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ипажи торговых морских судов и самолетов гражданской авиации, воюющих сторон, если они переоборудованы в воен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Основные направления МГП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907560"/>
            <a:ext cx="90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Раненные.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Их должны подбирать на поле боя. Оказывать мед помощь.  Медицинский персонал, мед учреждения нельзя подвергать нападени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Военнопленные.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Имеют право на достойное отношение. Запрещается их убивать, наносить увечья, подвергать пыткам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Мирное население.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Запрет нападения на гражданское население. Запрет бомбежки жилых кварталов. Запрет вызова голода (уничтожение складов, посевов, ирригационных коммуникаций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Беженцы.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Имеют право на защит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Средства ведения войны.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Запрет ядовитых газов, бактериологического оружия, биологического оружия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Запрет использования маскировки </a:t>
            </a: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(эмблемы МКК, журналистов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928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Военные преступления и военные преступники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691920"/>
            <a:ext cx="9036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менение запрещенных международными соглашениями средств и методов войны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)Бессмысленное разрушение городов и др. нас. пункт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2)Уничтожение культурных ценносте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3)Жестокое обращение с военнопленными, ранеными и больными, мирным населением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4)Угон в раб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5) Взятие в заложни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6) Грабеж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7)Нападение на объекты, содержащие опасные силы (атомные электростанции, плотины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8)Принуждение военнопленных служить в армии неприятеля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9)Нападение на лиц, прекративших участие в военных действия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6:41:29Z</dcterms:created>
  <dc:creator>User</dc:creator>
  <dc:description/>
  <dc:language>en-US</dc:language>
  <cp:lastModifiedBy>user</cp:lastModifiedBy>
  <dcterms:modified xsi:type="dcterms:W3CDTF">2016-10-23T15:38:53Z</dcterms:modified>
  <cp:revision>118</cp:revision>
  <dc:subject/>
  <dc:title>Слайд 1</dc:title>
</cp:coreProperties>
</file>